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C62F-BD36-4A5E-B6DF-6067E06DCE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6" name="Google Shape;103;p2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FE5F-00C7-47E3-81B6-D854E6FBF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9" name="Google Shape;116;p4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2557-93EA-47BA-A804-75CCE8D37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01FF-D16E-47BC-B5CB-845DCE20CFB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0979-D7AB-4580-A077-A1BAA9A1122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3E5D-227F-4CD1-99BD-F897616230B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2F69-FA86-4C63-A6CA-353E9E12F10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3079-3589-4C80-95F3-E87834C7C1E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AD26-BBA0-496E-841D-BCBD9269F3E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10BC-FB99-4566-AD05-EC901CCF4D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7932-2FE9-4F16-B9D5-455FEE37FD5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D26B-8016-4528-B493-ACA5282B9CA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3CB3-41C9-4DD5-A9FD-91C6587CFE7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52A7-5EF1-4FC3-9738-FB309D8D120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0759-51B5-4CB2-8F89-473FF24AFD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Google Shape;86;p107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590" name="Google Shape;87;p107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"/>
          </p:nvPr>
        </p:nvSpPr>
        <p:spPr>
          <a:xfrm>
            <a:off x="11471400" y="6554520"/>
            <a:ext cx="64296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7e6e6"/>
                </a:solidFill>
                <a:latin typeface="Calibri"/>
                <a:ea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D9C1-E2E8-4D8B-A26A-C721FAED0FEC}" type="slidenum">
              <a:rPr b="0" lang="en-US" sz="1100" spc="-1" strike="noStrike">
                <a:solidFill>
                  <a:srgbClr val="e7e6e6"/>
                </a:solidFill>
                <a:latin typeface="Calibri"/>
                <a:ea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71388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ransfusion Medicine Upd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8f"/>
                </a:solidFill>
                <a:latin typeface="Arial"/>
              </a:rPr>
              <a:t>Presenter, Credentials, Department / 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838080" y="1825560"/>
          <a:ext cx="10501560" cy="4132440"/>
        </p:xfrm>
        <a:graphic>
          <a:graphicData uri="http://schemas.openxmlformats.org/drawingml/2006/table">
            <a:tbl>
              <a:tblPr/>
              <a:tblGrid>
                <a:gridCol w="3025800"/>
                <a:gridCol w="827280"/>
                <a:gridCol w="882720"/>
                <a:gridCol w="892080"/>
                <a:gridCol w="772920"/>
                <a:gridCol w="925560"/>
                <a:gridCol w="925560"/>
                <a:gridCol w="804960"/>
                <a:gridCol w="718920"/>
                <a:gridCol w="72576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&amp; Blood Transfu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mens Labeled Incorrec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s Taking &gt; 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TX Reaction Not Verified by 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Re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Volume Docu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Labeling issue – event report written and all specimens recol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Transfusions &gt; 4 hrs – Total event reports due to incomplete transfusion documentation in Epic and not actual transfusion time. Transfusionist edits the time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Volume problems – event reports written. CRN or nurse manager follows up with staff to edit transcription errors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Upon hire of the TSO, increase the number of transfusions reviewed for appropriateness and reactions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Communicate statistics and goals to educate nursing &amp; physic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Proj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for each project that the team is actively wo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Google Shape;118;p18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33308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lej</dc:creator>
  <dc:description/>
  <dc:language>en-US</dc:language>
  <cp:lastModifiedBy>app</cp:lastModifiedBy>
  <dcterms:modified xsi:type="dcterms:W3CDTF">2023-09-22T20:40:14Z</dcterms:modified>
  <cp:revision>3</cp:revision>
  <dc:subject/>
  <dc:title>Transfusion Medicine Update</dc:title>
</cp:coreProperties>
</file>