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2DD2-925C-4119-BD62-BCDCA7CF7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5995-A5EC-4C78-8435-5428AEDD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E7C9-1062-4C79-BB96-FFEBCB1BA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4A0A-7183-4AFE-A9E1-984DBD901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B47C-5167-4D8E-99E1-8495213C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8E89-66D5-4560-A5BA-DD45634A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D00C-0E73-4D5D-A84A-CC121ECD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B57D-BC98-4EDC-B952-7FE1ACA4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4690-5A75-4B9C-B5D1-FB622338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524F-4ADB-4BD7-80A2-78AAC0F1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A57D-D78E-429E-9A09-B70A114B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DA14-249A-42E7-9F45-122B8C82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4CE5-BF5A-4235-809C-349471D56A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0"/>
          <p:cNvSpPr/>
          <p:nvPr/>
        </p:nvSpPr>
        <p:spPr>
          <a:xfrm>
            <a:off x="0" y="0"/>
            <a:ext cx="12192120" cy="191448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490320"/>
            <a:ext cx="10515600" cy="93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Blood Utilization Campaign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1" descr="When there is a need for transfusion? &#10;1 Not 2 Transfuse the minimal amount of RBC units followed by a clinical assessment for the need of additional transfusions. &#10;7 Not 9 Transfuse RBC at Hgb less than 7.0g/dl in stable patients"/>
          <p:cNvPicPr/>
          <p:nvPr/>
        </p:nvPicPr>
        <p:blipFill>
          <a:blip r:embed="rId1"/>
          <a:stretch/>
        </p:blipFill>
        <p:spPr>
          <a:xfrm>
            <a:off x="77760" y="2022480"/>
            <a:ext cx="1211436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1"/>
          <p:cNvSpPr/>
          <p:nvPr/>
        </p:nvSpPr>
        <p:spPr>
          <a:xfrm>
            <a:off x="466560" y="447840"/>
            <a:ext cx="3414960" cy="38019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77960" y="731520"/>
            <a:ext cx="2844720" cy="323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Blood Utilization Campaign coming up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Rectangle 13"/>
          <p:cNvSpPr/>
          <p:nvPr/>
        </p:nvSpPr>
        <p:spPr>
          <a:xfrm>
            <a:off x="466560" y="4419720"/>
            <a:ext cx="3414960" cy="1979640"/>
          </a:xfrm>
          <a:prstGeom prst="rect">
            <a:avLst/>
          </a:prstGeom>
          <a:solidFill>
            <a:srgbClr val="5b9bd5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4044960" y="447840"/>
            <a:ext cx="7688160" cy="5952960"/>
          </a:xfrm>
          <a:prstGeom prst="rect">
            <a:avLst/>
          </a:prstGeom>
          <a:solidFill>
            <a:srgbClr val="7f7f7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5" descr="Less is more for transusions- The best evidence indicates a more restrictive approach (HgB trigger &lt; 7 g/dl and prophylactic PLT threshold &lt; 10K) not only saves blood but also saves lives.&#10;&#10;Why give Two when One will do! - In the absence of acute hemorrhage, RBC transfusions should be ordered as single units followed by a clinical reassessment prior to any additional transfusions. "/>
          <p:cNvPicPr/>
          <p:nvPr/>
        </p:nvPicPr>
        <p:blipFill>
          <a:blip r:embed="rId1"/>
          <a:stretch/>
        </p:blipFill>
        <p:spPr>
          <a:xfrm>
            <a:off x="4370400" y="689040"/>
            <a:ext cx="705312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6-23T05:13:04Z</dcterms:created>
  <dc:creator>Abumuhor, Ihab A</dc:creator>
  <dc:description/>
  <dc:language>en-US</dc:language>
  <cp:lastModifiedBy>app</cp:lastModifiedBy>
  <cp:lastPrinted>2022-08-24T22:15:45Z</cp:lastPrinted>
  <dcterms:modified xsi:type="dcterms:W3CDTF">2023-09-22T20:44:10Z</dcterms:modified>
  <cp:revision>91</cp:revision>
  <dc:subject/>
  <dc:title>Quality Assurance Meeting</dc:title>
</cp:coreProperties>
</file>