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70D2-7D4B-41FF-83CB-EBC721F1D61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686" name="Google Shape;103;p2:notes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BAF4-FB01-41F2-80BF-B884F4AD9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689" name="Google Shape;116;p4:notes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CBD1-1476-4075-891E-C8746797B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3A1B-8337-411A-B67E-9456E2EA1CF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5B73-6A51-421C-9151-A5DC752B0F6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DF63-7F85-4C54-9FC1-4DA45053AB2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1565-3D43-472C-A500-F2733AACDC5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FBFB-9804-4DBB-AEFF-5D334523949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855A-9987-4615-8450-74C405E3B0B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1ECE-AEAE-4594-ACE3-E2FFEA0DDF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6A60-71E9-4763-B1E8-A4DF9DEDB43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55BE-CB51-4518-9088-70E352D6FEC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1F2D-224E-4DA7-BCCF-1EAF958AFF9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C79D-FA17-4500-A0A4-50398423D49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82B5-652F-41FA-B918-BEE61F07B9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Google Shape;54;p100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Google Shape;64;p102"/>
          <p:cNvSpPr/>
          <p:nvPr/>
        </p:nvSpPr>
        <p:spPr>
          <a:xfrm>
            <a:off x="487440" y="5303880"/>
            <a:ext cx="208440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Google Shape;66;p103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Google Shape;72;p104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Google Shape;73;p104"/>
          <p:cNvSpPr/>
          <p:nvPr/>
        </p:nvSpPr>
        <p:spPr>
          <a:xfrm>
            <a:off x="7510320" y="0"/>
            <a:ext cx="3648240" cy="6858000"/>
          </a:xfrm>
          <a:prstGeom prst="rect">
            <a:avLst/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Google Shape;79;p105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Google Shape;84;p106"/>
          <p:cNvSpPr/>
          <p:nvPr/>
        </p:nvSpPr>
        <p:spPr>
          <a:xfrm>
            <a:off x="0" y="0"/>
            <a:ext cx="121921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Google Shape;86;p107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590" name="Google Shape;87;p107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1"/>
          </p:nvPr>
        </p:nvSpPr>
        <p:spPr>
          <a:xfrm>
            <a:off x="11471400" y="6554520"/>
            <a:ext cx="642960" cy="2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7e6e6"/>
                </a:solidFill>
                <a:latin typeface="Calibri"/>
                <a:ea typeface="Calibr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408E-4947-44E7-8101-2D5496D2CEF8}" type="slidenum">
              <a:rPr b="0" lang="en-US" sz="1100" spc="-1" strike="noStrike">
                <a:solidFill>
                  <a:srgbClr val="e7e6e6"/>
                </a:solidFill>
                <a:latin typeface="Calibri"/>
                <a:ea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Google Shape;13;p93" descr="A picture containing text, windmill, device&#10;&#10;Description automatically generated"/>
          <p:cNvPicPr/>
          <p:nvPr/>
        </p:nvPicPr>
        <p:blipFill>
          <a:blip r:embed="rId2"/>
          <a:srcRect l="0" t="26823" r="0" b="12574"/>
          <a:stretch/>
        </p:blipFill>
        <p:spPr>
          <a:xfrm>
            <a:off x="-131760" y="1270080"/>
            <a:ext cx="12534840" cy="42768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Google Shape;24;p95"/>
          <p:cNvSpPr/>
          <p:nvPr/>
        </p:nvSpPr>
        <p:spPr>
          <a:xfrm>
            <a:off x="0" y="0"/>
            <a:ext cx="79675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oogle Shape;27;p95"/>
          <p:cNvSpPr/>
          <p:nvPr/>
        </p:nvSpPr>
        <p:spPr>
          <a:xfrm>
            <a:off x="6900840" y="1598760"/>
            <a:ext cx="3648240" cy="36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oogle Shape;31;p96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198" name="Google Shape;32;p96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Google Shape;36;p97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Google Shape;44;p98"/>
          <p:cNvSpPr/>
          <p:nvPr/>
        </p:nvSpPr>
        <p:spPr>
          <a:xfrm>
            <a:off x="0" y="0"/>
            <a:ext cx="3327480" cy="68580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Google Shape;49;p99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74720" y="1951200"/>
            <a:ext cx="71388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ransfusion Medicine Upd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876240" y="573048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8f"/>
                </a:solidFill>
                <a:latin typeface="Arial"/>
              </a:rPr>
              <a:t>Presenter, Credentials, Department / Or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337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838080" y="1825560"/>
          <a:ext cx="10501560" cy="4132440"/>
        </p:xfrm>
        <a:graphic>
          <a:graphicData uri="http://schemas.openxmlformats.org/drawingml/2006/table">
            <a:tbl>
              <a:tblPr/>
              <a:tblGrid>
                <a:gridCol w="3025800"/>
                <a:gridCol w="827280"/>
                <a:gridCol w="882720"/>
                <a:gridCol w="892080"/>
                <a:gridCol w="772920"/>
                <a:gridCol w="925560"/>
                <a:gridCol w="925560"/>
                <a:gridCol w="804960"/>
                <a:gridCol w="718920"/>
                <a:gridCol w="725760"/>
              </a:tblGrid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&amp; Blood Transfu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/Q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</a:tr>
              <a:tr h="677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mens Labeled Incorrect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7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s Taking &gt; 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se TX Reaction Not Verified by 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 Re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3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 Volume Docu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 of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337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Labeling issue – event report written and all specimens recoll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Transfusions &gt; 4 hrs – Total event reports due to incomplete transfusion documentation in Epic and not actual transfusion time. Transfusionist edits the time in E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Volume problems – event reports written. CRN or nurse manager follows up with staff to edit transcription errors in E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Upon hire of the TSO, increase the number of transfusions reviewed for appropriateness and reactions mi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Communicate statistics and goals to educate nursing &amp; physic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e Proj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for each project that the team is actively wo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Google Shape;118;p18" descr=""/>
          <p:cNvPicPr/>
          <p:nvPr/>
        </p:nvPicPr>
        <p:blipFill>
          <a:blip r:embed="rId1"/>
          <a:stretch/>
        </p:blipFill>
        <p:spPr>
          <a:xfrm>
            <a:off x="841320" y="1822320"/>
            <a:ext cx="10333080" cy="445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ellej</dc:creator>
  <dc:description/>
  <dc:language>en-US</dc:language>
  <cp:lastModifiedBy>app</cp:lastModifiedBy>
  <dcterms:modified xsi:type="dcterms:W3CDTF">2023-09-22T20:40:14Z</dcterms:modified>
  <cp:revision>3</cp:revision>
  <dc:subject/>
  <dc:title>Transfusion Medicine Update</dc:title>
</cp:coreProperties>
</file>