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E2C-6695-46C8-B710-92B3E1AF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E8D-AA98-4004-9B30-5E7F19F3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50D-D9E8-4E73-83F7-060864CE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578-EAD0-4FE0-9895-2CDA6D1E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2BD-15AC-47D3-94C9-D8FD5058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686-8CF0-4253-BE88-43830D3B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276-4308-4539-9B3E-84D4070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B23-50E1-4702-BAD0-B06F0167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252-65AB-456E-BE9D-1EB8FB6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D22-B121-4A06-84F7-3399D2DC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DE3-300E-4D69-9200-409DCD0F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A2B-75DD-430C-AFAB-A7A5233C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93EF-0F47-481F-BA53-37C04D360A4C}" type="slidenum">
              <a: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kYeP5cRyRA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924552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icrobiology Specimen Label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5408f"/>
                </a:solidFill>
                <a:latin typeface="Arial"/>
              </a:rPr>
              <a:t>[Your Organization Her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604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IDEO – ROCHE LI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1051560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YOUTU.BE/KKYEP5CR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lood Culture Bott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lock/obstruct bar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code needed to scan in instr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5" name="Google Shape;124;p2" descr="photo of a bottle used in the laboratory stating the importance of not covering up the barcode. "/>
          <p:cNvPicPr/>
          <p:nvPr/>
        </p:nvPicPr>
        <p:blipFill>
          <a:blip r:embed="rId2"/>
          <a:srcRect l="0" t="10663" r="4365" b="15923"/>
          <a:stretch/>
        </p:blipFill>
        <p:spPr>
          <a:xfrm>
            <a:off x="6900840" y="1598760"/>
            <a:ext cx="357192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erile Contai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– Label actual container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e lid is properly closed to prevent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body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9" name="Google Shape;132;p3" descr="photo of a example of a sterile container. "/>
          <p:cNvPicPr/>
          <p:nvPr/>
        </p:nvPicPr>
        <p:blipFill>
          <a:blip r:embed="rId2"/>
          <a:srcRect l="0" t="0" r="2597" b="2285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T/G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ine or s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ending swab, obtain specimen collection from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the swab and insert into smaller tube.  Send smaller tube with swab to the labora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urine, send urine to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3" name="Google Shape;139;p4" descr="a photo showing an example of a swab. "/>
          <p:cNvPicPr/>
          <p:nvPr/>
        </p:nvPicPr>
        <p:blipFill>
          <a:blip r:embed="rId2"/>
          <a:srcRect l="10069" t="0" r="14967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 Swabs – Viral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/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V/V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Sizes: 3mL and 1 mL (p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-on orders for Respiratory Panel same as FLU s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7" name="Google Shape;146;p5" descr="a photo showing a example of a respiratory panel and swab. "/>
          <p:cNvPicPr/>
          <p:nvPr/>
        </p:nvPicPr>
        <p:blipFill>
          <a:blip r:embed="rId2"/>
          <a:srcRect l="27474" t="24007" r="17667" b="2644"/>
          <a:stretch/>
        </p:blipFill>
        <p:spPr>
          <a:xfrm>
            <a:off x="6900840" y="1600200"/>
            <a:ext cx="3648240" cy="365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LLECTION 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swab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trep A an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bic/Anaerobic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A Surveill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label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1" name="Google Shape;153;p6" descr="a photo example of a collection swab. "/>
          <p:cNvPicPr/>
          <p:nvPr/>
        </p:nvPicPr>
        <p:blipFill>
          <a:blip r:embed="rId2"/>
          <a:stretch/>
        </p:blipFill>
        <p:spPr>
          <a:xfrm>
            <a:off x="7308720" y="2901960"/>
            <a:ext cx="283212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S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ach tu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mindful of tub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5" name="Google Shape;160;p7" descr="a photo example of tubes to highlight the importance of labeling. "/>
          <p:cNvPicPr/>
          <p:nvPr/>
        </p:nvPicPr>
        <p:blipFill>
          <a:blip r:embed="rId2"/>
          <a:srcRect l="13776" t="0" r="0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. D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5-7 will b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24 hours ordered without collection will be 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esting discouraged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9" name="Google Shape;167;p8" descr="image of a chart displaying the Bristol Stool Chart "/>
          <p:cNvPicPr/>
          <p:nvPr/>
        </p:nvPicPr>
        <p:blipFill>
          <a:blip r:embed="rId2"/>
          <a:stretch/>
        </p:blipFill>
        <p:spPr>
          <a:xfrm>
            <a:off x="6867360" y="957240"/>
            <a:ext cx="4569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re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wab – to replace bacterial sw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for Rapid Stre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63" name="Google Shape;174;p9" descr="photo showing images of eSwabs."/>
          <p:cNvPicPr/>
          <p:nvPr/>
        </p:nvPicPr>
        <p:blipFill>
          <a:blip r:embed="rId2"/>
          <a:srcRect l="4099" t="-35514" r="4099" b="-4462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9:57:26Z</dcterms:created>
  <dc:creator>Marc Benedict Bernaldez</dc:creator>
  <dc:description/>
  <dc:language>en-US</dc:language>
  <cp:lastModifiedBy>app</cp:lastModifiedBy>
  <dcterms:modified xsi:type="dcterms:W3CDTF">2023-09-22T20:40:17Z</dcterms:modified>
  <cp:revision>3</cp:revision>
  <dc:subject/>
  <dc:title>Microbiology Specimen Labeling</dc:title>
</cp:coreProperties>
</file>