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5580-0BCB-4604-8A98-FB4CDC0BD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F8CF-3669-41ED-BBF0-1AC4076F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054C-83DD-426A-AA3C-9D31ED75C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1D49-64EB-4029-801F-E6DA12534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3CAC-F0E1-4AD5-8797-44DDB5A4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C2F6-D695-4216-A55B-7751D66E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192F-BA7E-48E7-888D-0532CFD1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EA61-5F74-456D-BD40-8E15FF0F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6031-D6D8-4423-AE19-ADFA0223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8DEF-DE05-41ED-AC3B-8116B1A7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B68B-0AC2-4C0E-ACBB-6B1CD094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BDFA-FA65-4EBE-B8F2-F996185C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26F2-3AF8-4739-9282-57A262EA43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0"/>
          <p:cNvSpPr/>
          <p:nvPr/>
        </p:nvSpPr>
        <p:spPr>
          <a:xfrm>
            <a:off x="0" y="0"/>
            <a:ext cx="12192120" cy="191448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490320"/>
            <a:ext cx="10515600" cy="93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Blood Utilization Campaign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1" descr="When there is a need for transfusion? &#10;1 Not 2 Transfuse the minimal amount of RBC units followed by a clinical assessment for the need of additional transfusions. &#10;7 Not 9 Transfuse RBC at Hgb less than 7.0g/dl in stable patients"/>
          <p:cNvPicPr/>
          <p:nvPr/>
        </p:nvPicPr>
        <p:blipFill>
          <a:blip r:embed="rId1"/>
          <a:stretch/>
        </p:blipFill>
        <p:spPr>
          <a:xfrm>
            <a:off x="77760" y="2022480"/>
            <a:ext cx="1211436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1"/>
          <p:cNvSpPr/>
          <p:nvPr/>
        </p:nvSpPr>
        <p:spPr>
          <a:xfrm>
            <a:off x="466560" y="447840"/>
            <a:ext cx="3414960" cy="38019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77960" y="731520"/>
            <a:ext cx="2844720" cy="32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Blood Utilization Campaign coming up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Rectangle 13"/>
          <p:cNvSpPr/>
          <p:nvPr/>
        </p:nvSpPr>
        <p:spPr>
          <a:xfrm>
            <a:off x="466560" y="4419720"/>
            <a:ext cx="3414960" cy="1979640"/>
          </a:xfrm>
          <a:prstGeom prst="rect">
            <a:avLst/>
          </a:prstGeom>
          <a:solidFill>
            <a:srgbClr val="5b9bd5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4044960" y="447840"/>
            <a:ext cx="7688160" cy="5952960"/>
          </a:xfrm>
          <a:prstGeom prst="rect">
            <a:avLst/>
          </a:prstGeom>
          <a:solidFill>
            <a:srgbClr val="7f7f7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5" descr="Less is more for transusions- The best evidence indicates a more restrictive approach (HgB trigger &lt; 7 g/dl and prophylactic PLT threshold &lt; 10K) not only saves blood but also saves lives.&#10;&#10;Why give Two when One will do! - In the absence of acute hemorrhage, RBC transfusions should be ordered as single units followed by a clinical reassessment prior to any additional transfusions. "/>
          <p:cNvPicPr/>
          <p:nvPr/>
        </p:nvPicPr>
        <p:blipFill>
          <a:blip r:embed="rId1"/>
          <a:stretch/>
        </p:blipFill>
        <p:spPr>
          <a:xfrm>
            <a:off x="4370400" y="689040"/>
            <a:ext cx="705312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6-23T05:13:04Z</dcterms:created>
  <dc:creator>Abumuhor, Ihab A</dc:creator>
  <dc:description/>
  <dc:language>en-US</dc:language>
  <cp:lastModifiedBy>app</cp:lastModifiedBy>
  <cp:lastPrinted>2022-08-24T22:15:45Z</cp:lastPrinted>
  <dcterms:modified xsi:type="dcterms:W3CDTF">2023-09-22T20:44:10Z</dcterms:modified>
  <cp:revision>91</cp:revision>
  <dc:subject/>
  <dc:title>Quality Assurance Meeting</dc:title>
</cp:coreProperties>
</file>